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74E-0645-41E7-9E2F-A7D11581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2AE-6B30-4E0A-B837-73A0A22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B5742-60DD-4C72-934A-431A3C8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94DFC-1416-4074-A9D3-85C979FC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28F89-EF27-440E-BA7E-FD3B1002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3FC64-90AD-4ED3-906D-66A5494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C8B2F-3193-4E89-B50D-561AA088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48A32-B866-4D9E-A649-5DF410FF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6B2F-A63D-4694-A742-EBBD8C0E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DED7D-C414-4AF6-A43A-1C99EC39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F8044-6EE0-491E-8501-05C4F9D4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E7BD6-7655-4AA9-B193-FE9287F4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E97-4B55-4B0B-BF32-C36C5A95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71CE1-3FEC-4096-8032-34300790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37414-1250-433F-A766-E109302C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CD578-5097-49AE-9BA7-4E5C624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61E47-DDFC-46D6-89D9-7D2A78C9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46C99-889C-4D86-98A1-9C8339C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5D903-1686-4AB7-BD44-3424CC7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BED3C-0539-4F86-B198-08013DC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E209C-FBB8-448B-8F44-65FDF40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BE18F-F792-461D-84FE-C6B4DEA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B51DC-EFDB-467C-86A8-6F33A033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E63-6CAF-46C0-B48E-7A8D2B8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93F83-B43E-481C-9543-D025071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1ED1C-5578-46E0-B903-FD79CF8A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794D1-A173-42D9-81EC-E68BDA21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EE961-8670-418D-BE0A-CE3C5FA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FDBDC-1056-4F09-A3DD-450CA8C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BB31-57BD-4505-B347-9D4B724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01868-1ED8-414A-9548-2D91A2B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B72DA-03E8-4497-B44D-A6BF596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C5CDC-205D-4B1D-87AD-FF69CD4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91CD1-26C1-4072-8A8F-6F35935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9CB1-7A97-4EDA-AE9B-6F84386F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DF6AA-C269-4C5F-9927-598F491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4DEA5-6EEE-4FF0-8A02-6B09DFD2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8A2AD-5C1F-45B0-9685-CB61F27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F22DA-DBDA-4C8D-8856-1BD82F5E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6E5D3-9D41-4C95-A7DD-4869323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04A03-4CD0-4276-9783-A0D7CE4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C5D5C-1516-45A0-B161-75FF4816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7B60A-9AF1-4674-BC2F-30743F4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463C5-1DC4-406B-9B31-E673620F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32A79-3261-4E76-81EA-88CE51A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295F-45DC-4FB4-90C2-7E1A9909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D209E-7A69-42E2-8E0B-A0B57B42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06053-8F12-4D17-A232-3812FFD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74AF3-1515-4A0C-8878-808EF46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71BEA-9D7E-4773-ADE3-794E2886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13DAE-1695-47E5-8FDD-B310567A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C1207-CACB-42A5-9D89-53AE5275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4294F-F4B5-4051-A882-EB3214B6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D488A-CE56-460D-A4F2-51DA84A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EDC49-FC08-480B-80B2-DBE0CD1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E4A91-7CDB-4E9E-BDA7-C76F3F8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9749-9EAF-44C7-947C-5C89A58D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54445-B32A-42B7-B190-F20B2EC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61C46-644A-4BC6-B604-A5910DC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83491-E101-4D64-9074-F36B526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E1483-EA1E-4DBA-91D2-EC94809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D3CF4-FC83-46B6-B1A8-7B54FAC8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482C9-199D-426E-A6AE-1C3F5A2B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113BC-3A73-4EC6-B18D-DA7056D6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0F742-CFD1-4909-87BD-94C41561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D65DA-4A1F-49DB-A022-3D94DDF0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DC93B-E39B-4591-9CD0-AF909C5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F40D-9295-4336-BDD3-8B88DF8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32085-0BA3-478D-BB82-474394A4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62398-6D5C-41E3-A975-D96E3E30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88473-59C5-4E17-A868-6E358EE9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98ED1-BEB9-4B4E-9E95-19A5226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9086D-3725-41AF-B878-6B9A458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E9EDD-EA62-4188-A1F8-F12BBA2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9EB9D-E297-4883-9F98-88E38A04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6DC87-FD26-4044-9A12-71B3983F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A6ED5-B2E3-4FAE-8F7B-790B452A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DFA87-65DA-48ED-8CF3-1C80037E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2D7-8AD9-4D12-97F5-A6D56A2E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1F0B0-184F-4995-B9CC-9F4C57CD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4944E-51B4-48D2-ADD1-1D42DCC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216F4-787F-4A90-BCC5-C81A4DE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8EF97-BEED-42E8-96A3-EB679E6E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35A0F-232E-426E-A18E-094DD8C6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5D51E-17CB-4609-812D-8957285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26D0F-6334-4699-A36C-70437B87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9D005-2374-4FD8-B267-E3779B2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5E257-D565-4C30-B220-C0F7CDAC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6BC52-BD4B-440B-97A6-9F76EAE8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B1C4-DBBE-4309-BAA5-22EA01E8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664B4-07FB-46CB-85D9-2DD83A3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D54B9-5CAD-4252-A1F5-C5AAC990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DC34D-0FEC-4C3E-899F-184EDA8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5E495-4028-4E69-A81B-D07FC81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F1C02-5BF9-49BB-B1D4-06E6315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06F30-3EEE-4EBF-99AD-86119DDC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043AE-F48C-48F7-8D16-97048EF3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49876-63B3-45C6-9924-3500B85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17AD9-32A7-435A-8002-FDD9BD3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BC099-FD95-4614-A38D-E64013B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184D-20B2-4C6B-AC76-DCC40B8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B9662-986A-43CD-B6D2-CF67871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45D0C-B1B7-4CE4-B48D-D5C5C81C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FC6A6-21B9-4C7D-91C2-6F80A7A4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DF4F4-7638-4A18-9D36-D25292BA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F7C3D-7E58-4DF1-8828-A602BAA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B1AE7-68CC-42BC-B073-21DA626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7662D-5FDE-42B4-8E0A-13F8460B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C6496-361D-4A07-8043-8D5C2E98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41757-2B9D-4CF9-AC97-46000338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4C415-4A2E-475F-B4DA-3501737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2CE-F68E-4957-86F5-3B722F6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C29A-9A5B-4B1D-96B2-CE4BC14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B804C-FE42-47EB-84D6-715ABFC0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0C6C7-5EA5-4143-A398-2267E366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79BD6-2FAA-4CA1-82E9-4B77F67C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46F63-CEBD-444D-BD30-297E4158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5987E-E7A4-4B20-B1BC-280363BF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52243-116A-4454-9A8C-F85FD235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F3BBB-44CC-4E06-B604-91ED30C4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EAEEE-7CF0-4A23-8BD6-EBDD6DA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042A1-F787-4344-979C-F224BC74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BFC33-BBC4-4063-AD48-75BDF90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AE9C-2703-4435-9037-DB0F80E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0B32A-13D7-469B-8F47-C1DC5745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C3254-C41A-449A-9B73-F4499A0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A8C8D-28B4-43E7-A74D-5209B3A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1D34A-DC39-4FB7-B77F-B73FF5A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3867D-4203-4632-9A88-563E5A6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4BC75-B07E-4DFB-B662-37E21292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8EA9B-0025-41A4-AB86-37DE0141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32DEC-6502-40DC-AB95-62968413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24A1C-9781-47E0-91A6-C4D613B3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C997E-01A0-4F3D-986B-F6B1498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B21D-5377-42E0-B287-9985F36B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F1DDF-AFAC-42A9-B0BC-6233A26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28185-370A-4D2C-BCF0-A1A01B50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955C8-D000-4FA8-915A-3F4EAC02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F303E-E7B2-47B8-814E-C286148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5C106-6FAA-4504-8CEA-77A736D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4B870-04C5-46A5-80DA-B417E60B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25D7A-8601-42AF-8C09-9A3BB19A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47197-B3EE-493B-857D-30422340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D066F-26BA-4EC3-B019-23BD1726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4BA9F-07A2-431C-A34A-E9342EDD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C04C-0848-4F29-BDBA-700C0F36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B69C5-AF5A-4F27-B638-3B82E7C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56941-6C38-4CF4-9DC1-32BFACC1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AE6C3-18D3-4E18-A489-24E89E39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172E0-72AA-4458-94C2-AC51DCF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8C953-1971-4657-88C6-111B2BCD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F4F83-4B98-46BA-A41E-F096404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EC755-5AF5-4DA1-A8AD-73A4025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EE48E-B72E-4BAB-98F6-E20EE74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42D4C-EF2A-4E3C-8D17-8087F73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E13D5-2FEC-432B-A4D0-2066DA4E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A7F2-52B8-4C0B-A9B4-CDEB2788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6D4FE-874D-485F-8CA0-8A76D4D5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6A84A-8D24-4143-99DB-DAB4CF83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E8BEF9-466D-4233-8A0A-EFEA97B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01F5D-0FEE-4236-B837-60B59C01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460F9-1257-4758-B343-51DFF94E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912FD-12DF-4387-BB84-DA7CB91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37BAA-8BF4-4D64-87AA-06C95E1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24751-A4DF-4387-B1C0-2B06630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72905-D4F4-4877-ABF1-494083E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0B2BE-4F33-4DB7-99AB-78BF9AA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4092-3405-4032-88F7-678C309D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C489A-07B6-4DFC-BB1E-7B18EAED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09BC0-3CA8-4B80-BCAB-87A30FFB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4553C-F085-44D9-A58C-E10218BE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0CE3-7FA5-473E-B57A-7075830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093A-5B1C-4002-AFE3-00F83003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772D-DE1C-408E-A819-A522C48E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BF0C-0C41-4F79-A1CD-040DEFD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753-A80B-4FE7-B73F-DFFC508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8AEF-FB04-4386-B8E4-C4A354BC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BDAE-220B-4A2A-B503-7D094DD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6F84-0609-4EE5-8AD5-BA18C54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38DA-89B4-4529-85E4-309985E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FABF-BB49-4916-85F5-112C379E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8A97-70A5-4F22-BD9D-3B7BE0E4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C9E4-3D64-4473-931F-2EA66F22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A63B-7C1C-40BE-993B-1247699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BB06-0F0E-402B-97CC-9D01DA4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633A-EAF9-41CB-B0D6-FF77573B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CC1-F1F0-4F1A-8418-881A84D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6801-2312-432C-B15B-25231ED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B0EA-4D0D-4352-9D7C-55D65F4A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6EB7-2BA4-42EA-896B-012F4F37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C008-5F0D-4A26-9AB3-1A9CE275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6041-FE1E-41DC-9F9B-D279B60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34CF-3535-4C70-B4E7-9AECDBD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714CE-4B0F-42B9-83DB-BC52F608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6EAF8-2F0C-4A5C-A785-871793CE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F8B4-3D0A-41AE-BC27-D741DD77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F01A-5670-427B-8D13-31F603F3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51C-79DF-4ABA-8690-088FC04F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4496-85EF-4957-930D-5BAAFB01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76945-C676-44D3-AF2F-9F3637C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D4EA-0210-4DE5-8E34-7B0F5A0B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B9ED-FEF2-4190-991A-C8022108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37AEC-880B-436B-8949-2D9E17D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AC05A-09E1-4D05-B6A7-FEFD181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6FA5-6BFE-4E96-90CB-6C9DA5C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06A4-4723-4412-9607-E2AC144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94AF-AABB-44D6-B732-D079C910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C024-53C5-42BF-A70E-1E74047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050-FDDB-477F-9569-23375E06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7678-30FA-4C4A-9E86-659495D4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8EDE-9D36-4B73-9D9B-ED4FCB9B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74A27-8CBE-4C6D-96A3-1690F52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568D-4350-4EF1-9AA1-2BEE4C26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AEE1-094E-4B23-8271-D8CE3C94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84D8-AC82-4425-A4D4-2DF84B67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ACBA-58F6-46EF-8291-7BE28902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0F0B-9A64-45BE-8883-65212C2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3A86-8968-4D8F-B207-B2861783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E840-4358-4E62-BA30-EFEF2D9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E4A-F5DE-49CF-A677-D87E00C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1550C-F883-4B99-975A-0D67D959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D0A6-A98B-42ED-9C3B-5CFF0A67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FD50-071A-4903-8508-CA6EE84D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3FAA-DA34-464C-B654-4BAACAEE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462FF-D0CB-498D-9ED3-183EECA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1972-4949-4A66-9018-7F33E6B2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2BE1-C476-4A33-8B01-5D5BCDEA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6C83-9718-47CB-8320-861AA95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97E7-402B-44A1-9DEA-53E86AA6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DB3C-1AB6-475C-849D-ED0C877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AFE-8140-4873-BB03-B4BC379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55C7-034B-44F1-918D-0301F78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2AD4-A18E-4CF0-A90E-0422684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5EC0-1D86-4BDB-A242-7823FA4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02BED-7E5D-48C0-8359-6B435A4D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C769-1CD1-4C75-BDBB-E40C0AD4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B8F5E-5A9D-48CC-B890-174D74E0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7F78-750F-48DD-B012-D3940D2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1AC00-904F-40FA-84B6-51F9604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E26C-CBAE-43A8-9FD5-855572FE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10648-864B-46C9-8AD8-1A5C79D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B96-785F-4AE8-97A7-6532965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01C5F-4D6F-4D18-88A1-DEC5C1A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C045E-0D34-400F-A090-A02040C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8CA46-B464-475E-8145-C6B2ECF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9A77A-1389-451C-87C3-3E65F1B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D94D-D0DC-4B74-85E1-B886316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5F08-239D-4C1F-BB7F-6DEDEBAE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E8B3C-EB03-4BF5-A1BF-7084F55B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15D5A-A258-4CC5-90A8-667F2507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60909-11E6-468C-B50E-0D82312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34AD0-06ED-43FB-9E79-BDF91A9E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C026-4648-459D-9A55-F59E4515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13C-A442-43EE-BA6A-8834CBF64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29C-D867-48A4-AE9D-C19173BC8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3B95-415A-467D-973E-50FECE932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D02-AB85-4771-8475-15A1C794E7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A6F-DAA0-4FC2-AFF4-9DB73589D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23CF-43C3-463C-B29D-C7DAA00C0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2C4-D512-4A19-865D-0AAD0AB5F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981-AB83-4077-B3B9-4CA7C81862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DA0-B879-40C2-83E6-9A0F69FD5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478-8B24-4572-A81C-738E2FE77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E0BF-0484-44B1-A211-6EF10571F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7093-FDAD-46CD-9585-8B0178EA4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9545-53EB-44AB-AAB0-AA9E14CEE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9C09-935B-4EB7-8DD5-578B042C0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AAA-D992-4BB3-9928-DE207EBAB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6D8C-7403-4E3E-8EC9-106EDFFCD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3035-8206-48E4-BA67-7973404E1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1C87-1F16-4F76-B000-5AF5CCA41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4DDC-3DE2-4B16-A2D5-6B72A90A9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7243-EBBA-4AD4-94ED-ECB2B7951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E6F-6556-4573-BABD-D788D7695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C72-9C53-44FA-9925-0D6DB72AE8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7D85-EE64-4770-84C1-0266B5F8A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7D8-9DF9-4373-A1AA-FB2CF2D91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4D9A-1D80-4DE3-A1A7-0E444ABC0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EA0-E6EE-425A-A510-62561F4A2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24F-2C72-455A-8A8C-D5EACA783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756-F716-4943-926D-04F4335C7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5E7-CE1F-494E-A65F-9F3297786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D9F7-537F-476C-93C0-291708E40F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34D-AF4B-4171-B7CA-74F70A25D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F8E-8965-4720-99DC-26FD5FD8BF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B59-094C-4634-8F37-948ABF0D8D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1278-209E-40FD-8F27-C9ED6F745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F50-F955-4CDC-A2A7-EA61DE771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57F3-A634-4235-BCDC-EB9834A78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289-F599-4096-B76F-EB9C4AFB7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0A82-F71B-40F4-A421-711C17A28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02D5-F003-4BA3-ACCB-1856154D7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3520" y="3166920"/>
            <a:ext cx="86169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00160" y="790560"/>
            <a:ext cx="8743680" cy="601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435640" y="2463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435640" y="3962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5445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33360" y="976320"/>
            <a:ext cx="8477280" cy="5313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258920" y="2176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627280" y="219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851280" y="219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5148360" y="2176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6488280" y="21765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1332000" y="3371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1332000" y="3962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1389240" y="45370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0"/>
          <a:stretch/>
        </p:blipFill>
        <p:spPr>
          <a:xfrm>
            <a:off x="1389240" y="5157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1"/>
          <a:stretch/>
        </p:blipFill>
        <p:spPr>
          <a:xfrm>
            <a:off x="1346040" y="57484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9" name="组合 6148"/>
          <p:cNvGrpSpPr/>
          <p:nvPr/>
        </p:nvGrpSpPr>
        <p:grpSpPr>
          <a:xfrm>
            <a:off x="1219320" y="952560"/>
            <a:ext cx="7048440" cy="5418000"/>
            <a:chOff x="1219320" y="952560"/>
            <a:chExt cx="7048440" cy="5418000"/>
          </a:xfrm>
        </p:grpSpPr>
        <p:pic>
          <p:nvPicPr>
            <p:cNvPr id="1050" name="图片 1" descr=""/>
            <p:cNvPicPr/>
            <p:nvPr/>
          </p:nvPicPr>
          <p:blipFill>
            <a:blip r:embed="rId1"/>
            <a:stretch/>
          </p:blipFill>
          <p:spPr>
            <a:xfrm>
              <a:off x="1219320" y="952560"/>
              <a:ext cx="6705360" cy="54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图片 6147" descr=""/>
            <p:cNvPicPr/>
            <p:nvPr/>
          </p:nvPicPr>
          <p:blipFill>
            <a:blip r:embed="rId2"/>
            <a:stretch/>
          </p:blipFill>
          <p:spPr>
            <a:xfrm>
              <a:off x="1619280" y="1508040"/>
              <a:ext cx="664848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2" name="圆角矩形 6150"/>
          <p:cNvSpPr/>
          <p:nvPr/>
        </p:nvSpPr>
        <p:spPr>
          <a:xfrm>
            <a:off x="3348000" y="1628640"/>
            <a:ext cx="259236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圆角矩形 6155"/>
          <p:cNvSpPr/>
          <p:nvPr/>
        </p:nvSpPr>
        <p:spPr>
          <a:xfrm>
            <a:off x="3348000" y="2565360"/>
            <a:ext cx="4464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圆角矩形 6156"/>
          <p:cNvSpPr/>
          <p:nvPr/>
        </p:nvSpPr>
        <p:spPr>
          <a:xfrm>
            <a:off x="3276720" y="3538440"/>
            <a:ext cx="86364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圆角矩形 6165"/>
          <p:cNvSpPr/>
          <p:nvPr/>
        </p:nvSpPr>
        <p:spPr>
          <a:xfrm>
            <a:off x="3276720" y="4508640"/>
            <a:ext cx="352728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圆角矩形 6166"/>
          <p:cNvSpPr/>
          <p:nvPr/>
        </p:nvSpPr>
        <p:spPr>
          <a:xfrm>
            <a:off x="3276720" y="5491080"/>
            <a:ext cx="1800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59:4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